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70AC-72BF-4D63-9887-BA0A8B92377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C4E6-A80D-4268-B925-CE67B62468F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62E0-F4A1-47B2-B9B6-9C73FE22B6D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B35F-DC2B-45F7-A49E-A1D22F9A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F5B7-3F06-4148-A87F-2F84AA66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E741F-3BBD-4A26-B0D4-972382F1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5A20D-38E9-40CF-B5C0-AF807BD3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FDFB4-119F-456F-80D7-83059219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9A61D-FF5D-44DF-A470-F610705E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0AE0D-5530-4986-9551-419E1488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3BD42-FD70-4ADE-9065-45D311E6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17A87-90E6-4680-9297-FA72B23F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B8C06-7637-4FB8-AA48-A4794C37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91EFB-476B-481C-A5EE-1D231A86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565EA-507B-48F0-BBFA-6718108E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FB1-AA7A-4108-9BFC-79948BF2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09B78-00EF-48D2-9F6D-F39FA689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33674-B53F-4217-8177-351077E4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2554F-0BEC-4B5A-806D-CF04B273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2E48E-2720-4911-980A-8E6DD72A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2F42D-EF13-4924-8D65-43C04D33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31446-CD8E-494D-9890-0DFEE5C0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B09C9-BA17-4DA1-8FD4-46EE67F8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5ABF8-07C5-4848-96F7-61502467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1ECD4-2811-4AD3-9F94-9516403F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2E971-ACD5-481F-BC59-6C800903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DB5C-C760-4F7A-AA68-18FE4067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75567-1E05-4A16-995C-07AC6607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1AF49-C814-4FAA-8C9C-A236F4D4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F6C7E-9EB5-47A6-9672-F26B13F3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17C9B-A80B-47F2-B9C4-3C80B816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83B6D-FBE6-4886-AE7F-D7DF2189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5DAED-0DB6-41C4-96F5-67DFA04C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26C47-C4C7-469A-96D8-EAEDEBFE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F234F-F7B4-4F6D-907C-08177129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BCF82-29BF-4A87-B3C0-116AB9EE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85C13-A76B-44DA-B5F4-0D5E118D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582E-48AD-4623-93DB-13C11978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3B989-91A8-4FAE-81E3-F80D3CE8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82F66-32FA-49D0-94D7-660618FB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812CE-95C3-424F-B4CF-7D175CF6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1461-5F54-454C-91BF-4995DCF3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E5DB-BECF-4E76-876D-4D606287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98F9-8248-4048-8373-770086D1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5381-50CE-49F0-BBF6-B150442F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AFAB-CECE-4CF7-947B-05E37110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4F0F-4E5E-429D-8839-3A08C67B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90FC-5664-45FA-A97A-3DCADEBD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4CFE-1BC8-4A5A-A595-4320A9DD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ED08-D563-4DBF-BB30-C1719A51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4606-78E0-40E9-BDC1-16DB0EAB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AA67-C43A-49D5-8609-24FE7601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D1EF-FD01-4472-B72C-931CDC4A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56575-E965-4259-88B2-AA690D52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6F403-BC92-4C8F-8E87-167B5636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4AF1F-A5FE-45DA-9133-9CCA7FF4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264F5-8B1D-4345-92D5-3447B804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9E217-0BBC-4965-817F-DED826C2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FC7C-DCE1-4EC5-A1B2-0D10D879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AB550-0AA6-4F14-BBE9-E526282D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4169D-507E-43BE-A3BA-590A2CF5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83F6F-12E9-46CB-85C2-3F65CC1D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ED0FB-3E83-4CEE-9FBA-1BF3D2A2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EF42B-A247-4628-8D03-06F9219B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EF856-FFDB-46A7-ABF3-05FC9C93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26DBD-B98F-464D-B07D-0B30E45E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8F703-422E-4035-9261-E3636F66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752D0-AB2A-4E2A-A6EE-AD3E50A5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9BEF3-1AA5-4783-BC96-351C8A15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3793-94BB-405A-B749-EBBD0522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15436-B516-4EAE-9CDD-EC768474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68CE6-D618-40D5-84AA-E7584197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AB3CB-A3F7-45FE-9EED-7EDE0B03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D390A-A255-4EF5-86F0-9F6C3DE9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882B7-C9DD-4A59-BB17-F7F4CBEB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F4E7A-17C9-4395-9941-F40645F5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C0960-76AF-434F-A098-4858B64D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D0DBC-5A39-4244-9050-C7F0C00B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0893B-84AA-4CB5-A3A8-7F6806ED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5ECEA-F204-4A33-AB5D-58518EFB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C7AB-3E5B-48E8-B847-99EE6831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2500E-9770-43B2-AC52-65E773B3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95D44-970F-4351-A1C6-81FA0507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73255-32B0-4007-AC32-A2419C6E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BD2CA-1B24-48DC-9E53-E38F5773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7C72B-ACA0-43FB-9269-7C280B87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27095-A798-42F7-BD71-561A8DDB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65924-2DBE-45E3-86EF-375E8BB6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CFF72-FB2C-47B3-B880-06A3C960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B5F67-3D4D-4A95-B9F2-64AD3FED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5ACF0-0517-4B72-AFB9-D67CDFE1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D64F-FCB0-498B-A794-D85C1EE4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ACEBC-1C99-4785-80B1-8B4F8F03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30561-7C18-41A3-9AC6-65710E02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37489-C8CE-48B9-82B4-426D3DF7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3A2FF-3761-4485-B45D-C2DF4D48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8BCA3-5D68-4529-A1B4-917459A0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8ECE1-E5C5-4C3E-9972-EB83C966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18A61-3A2F-4361-95F9-3CC0D1B9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4BE1B-D849-464B-B786-5E497CB7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C6929-3526-4A91-B363-433E3015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7D82B-35C7-442B-B213-DA5E7DEC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E1C7-ADC2-42AB-8304-74A62661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E74FA-B608-4C5E-90DF-7CCE8A47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438CB-0993-4DD9-9B6F-FC72CC3F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DC9EB-7D90-4F00-86A5-5865A4FE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565D5-725E-4F51-9DCF-FB6C4A5C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FDCCA-2BC7-46B7-982D-C3F81F39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23604-6B5E-4AF0-8DA5-6CA9C2A1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32AB7-353D-4929-B51A-4AEA8C8A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89E3F-7F92-40E0-86A8-E0EEA233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D210E-5A48-49F6-B1C0-06ACFDC5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BD734-D732-489D-A467-BDB6CA10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5AB4-61EC-405F-A41A-DE75392E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4D5E5-3C51-44DA-ADB1-0C3B30A4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B9EEC-8F2C-4AA0-9027-CAC0579F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9165C-CA90-46CD-AA71-4467703D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CE787-192C-4E5E-B291-68D2BA6A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3DB66-B449-4DF7-A8B7-A6A116F2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98116-1917-40BC-8186-C3F19224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C04D5-D5FA-42BB-B77F-C813CFB4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1854A-F3BD-401A-9512-47658E89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A4849-38DF-4E52-AA18-F995FA5A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9567D-4E11-4024-B76E-CE506553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D72-0A53-478C-B80F-21E86C26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13ED1-2519-4726-B341-ED6DECC8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4E3F3-F1F1-441E-8C60-849275C6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557D5-660B-465F-89B6-DBEE6D32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D3A94-D8B8-42CF-ACD7-5CFE9792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CAD1F-90E5-4A35-A520-5A7B81EC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59E98-B5DB-4F31-B908-14EDD816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099CA-0404-4EEE-8DBA-806EE19B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E785D-62BA-455E-8BB3-3F33F1D0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008AD-7EFA-417C-AF0B-59BB803E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1A875-0D18-4201-85A1-BA7452A3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9247-C51E-4610-A92D-A3519ADA0F97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27C5-186E-4337-8EAF-C1599111F2DE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5294-8E72-44D2-AE24-292F44A15C20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4A81-9EA4-48E8-88E0-CCC9BA283D79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CF78-5F39-4F42-BE14-822F43DEAAE9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FAF7-50E6-4630-9A8F-573DF7A95434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6D37-90F8-4606-8BB4-F33D997B9CD2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DA5B-1F7E-4759-8862-A277932AEF78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A86E-5657-4CC2-AA8A-5CA7846A4505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6327-FB0B-4E95-86C6-91014EBA77C4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0604-5EA7-438E-9E68-C87F576F09C1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84836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第十章 纤毛虫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宋体"/>
                <a:ea typeface="宋体"/>
              </a:rPr>
              <a:t>Ciliate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结肠小袋纤毛虫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alantidium coli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5" descr=""/>
          <p:cNvPicPr/>
          <p:nvPr/>
        </p:nvPicPr>
        <p:blipFill>
          <a:blip r:embed="rId2"/>
          <a:stretch/>
        </p:blipFill>
        <p:spPr>
          <a:xfrm>
            <a:off x="1835280" y="3976560"/>
            <a:ext cx="3201840" cy="28814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4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3043440" cy="3024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形态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：椭圆形，无色透明或淡灰绿色，全身披有纤毛。有胞口、胞肛结构。虫体中、后部各有一伸缩泡。染色标本可见大、小核各一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324000" y="3068640"/>
            <a:ext cx="79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或近球形，淡黄或淡绿色，囊壁厚，染色后可见明显的大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990800" y="1262160"/>
            <a:ext cx="5533920" cy="5024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生活史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pSp>
        <p:nvGrpSpPr>
          <p:cNvPr id="497" name="组合 5"/>
          <p:cNvGrpSpPr/>
          <p:nvPr/>
        </p:nvGrpSpPr>
        <p:grpSpPr>
          <a:xfrm>
            <a:off x="2241720" y="1346040"/>
            <a:ext cx="5287680" cy="4365720"/>
            <a:chOff x="2241720" y="1346040"/>
            <a:chExt cx="5287680" cy="4365720"/>
          </a:xfrm>
        </p:grpSpPr>
        <p:sp>
          <p:nvSpPr>
            <p:cNvPr id="498" name="TextBox 3"/>
            <p:cNvSpPr/>
            <p:nvPr/>
          </p:nvSpPr>
          <p:spPr>
            <a:xfrm>
              <a:off x="3852000" y="32850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人体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9" name="TextBox 6"/>
            <p:cNvSpPr/>
            <p:nvPr/>
          </p:nvSpPr>
          <p:spPr>
            <a:xfrm>
              <a:off x="2241720" y="32958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宋体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0" name="TextBox 7"/>
            <p:cNvSpPr/>
            <p:nvPr/>
          </p:nvSpPr>
          <p:spPr>
            <a:xfrm>
              <a:off x="3973680" y="169992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脱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6372000" y="2915280"/>
              <a:ext cx="1080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2" name="TextBox 9"/>
            <p:cNvSpPr/>
            <p:nvPr/>
          </p:nvSpPr>
          <p:spPr>
            <a:xfrm>
              <a:off x="6197760" y="4016160"/>
              <a:ext cx="1331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结肠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定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3" name="TextBox 10"/>
            <p:cNvSpPr/>
            <p:nvPr/>
          </p:nvSpPr>
          <p:spPr>
            <a:xfrm>
              <a:off x="2700000" y="1346040"/>
              <a:ext cx="144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感染期包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4" name="矩形 4"/>
            <p:cNvSpPr/>
            <p:nvPr/>
          </p:nvSpPr>
          <p:spPr>
            <a:xfrm>
              <a:off x="3973680" y="522936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5" name="矩形 12"/>
            <p:cNvSpPr/>
            <p:nvPr/>
          </p:nvSpPr>
          <p:spPr>
            <a:xfrm>
              <a:off x="2268360" y="535140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187280" y="691920"/>
            <a:ext cx="7777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史过程：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寄生部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殖方式：以二分裂为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染源：猪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阶段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期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方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致病与诊断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：滋养体分泌透明质酸酶并借助机械运动侵入结肠黏膜及黏膜下层，引起溃疡（似溶组织内阿米巴痢疾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是一种机会致病原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、急性型和慢性型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：即初期潜伏型。在粪便中可找到虫体，但无相关症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2"/>
          <p:cNvSpPr/>
          <p:nvPr/>
        </p:nvSpPr>
        <p:spPr>
          <a:xfrm>
            <a:off x="468360" y="3429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涂片查滋养体，乙状结肠镜取黏膜组织活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382680" y="714240"/>
            <a:ext cx="82864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型：即痢疾型。发病突然，腹痛、腹泻、黏液血便；可有并发症，也可累及肠外组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型：周期性腹泻，或腹泻、便秘交替，常排出黏液但无脓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流行与防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流行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性分布。在我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省、自治区有散在病例报道。宿主广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动物可感染此虫，猪为重要的传染源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污染及蝇的机械携带包嚢是重要的传播方式，主要是包嚢污染的食物和饮水经口感染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防治原则同溶组织内阿米巴，注意个人和饮食卫生，加强猪粪便的管理，保护水源，用甲硝唑治疗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12:27Z</dcterms:created>
  <dc:creator>shi</dc:creator>
  <dc:description/>
  <dc:language>en-US</dc:language>
  <cp:lastModifiedBy>hzg</cp:lastModifiedBy>
  <dcterms:modified xsi:type="dcterms:W3CDTF">2015-10-05T12:54:03Z</dcterms:modified>
  <cp:revision>27</cp:revision>
  <dc:subject/>
  <dc:title>结肠小袋纤毛虫 Balantidium coli</dc:title>
</cp:coreProperties>
</file>